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BB17-B8F2-4146-A51A-D6C4FE81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CBAF-9B22-40E7-B3AF-92E0F62E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05B-FCBE-41FD-81E9-563B1BFE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3F1C-36A9-4402-B2F7-F5372FBA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A36D-FF12-45C9-989C-5D0F3732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30B-137B-4879-B437-8CB0BE80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1B4-CC34-46E0-8B7A-8486B454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5EF-FAFF-4767-8D60-A5874770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6803-2E06-4194-8DDD-6507359A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AE0-812B-4B3B-8B83-C1027E8D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B90-DCF2-4308-A50E-A81BAD89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0066-AA38-49F9-AF31-2A3BEF12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A7B7-B2D7-44C6-B076-0126CCB4A8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Tahoma"/>
              </a:rPr>
              <a:t>M.O.R.E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ak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Op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Respon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Eas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7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4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70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700"/>
                            </p:stCondLst>
                            <p:childTnLst>
                              <p:par>
                                <p:cTn id="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65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30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415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How ?</a:t>
            </a:r>
            <a:br>
              <a:rPr sz="54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Rea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Highligh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Organiz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0" y="5335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Rea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057400"/>
            <a:ext cx="76960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89208"/>
                </a:solidFill>
                <a:latin typeface="Tahoma"/>
              </a:rPr>
              <a:t>Don’t Freak Out 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ad the introduction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FIR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ad one part at a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523880"/>
            <a:ext cx="76960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3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Read with your mind, not with your mouth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Thin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bout the wo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do the words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mea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Highligh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ath Vocabula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ey Wor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you kno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900"/>
                            </p:stCondLst>
                            <p:childTnLst>
                              <p:par>
                                <p:cTn id="16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900"/>
                            </p:stCondLst>
                            <p:childTnLst>
                              <p:par>
                                <p:cTn id="16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9900"/>
                            </p:stCondLst>
                            <p:childTnLst>
                              <p:par>
                                <p:cTn id="17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Organiz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p-By-Step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swer in or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sy to rea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5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2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2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71600" y="609480"/>
            <a:ext cx="617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Think 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90512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you already know about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971800"/>
            <a:ext cx="7543800" cy="44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this is an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the letter “x” represents a missing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the letter “x” is called a “Variabl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I need to solve for “x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I need to look on the reference sheet for something that may help me answer this ques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309840" y="457200"/>
            <a:ext cx="252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Show 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752480"/>
            <a:ext cx="7696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 how you got your ans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-by-st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a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95280" y="45720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Step-by-Step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ph </a:t>
            </a: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ves </a:t>
            </a: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t, </a:t>
            </a: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ph </a:t>
            </a: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shes, </a:t>
            </a: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rprisingly </a:t>
            </a: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286000"/>
            <a:ext cx="73152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R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D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ia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F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R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eplace with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C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alcu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o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L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ab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9:08:33Z</dcterms:created>
  <dc:creator>Barnstable Middle School</dc:creator>
  <dc:description/>
  <dc:language>en-US</dc:language>
  <cp:lastModifiedBy>Barnstable Middle School</cp:lastModifiedBy>
  <dcterms:modified xsi:type="dcterms:W3CDTF">2009-05-07T14:23:36Z</dcterms:modified>
  <cp:revision>12</cp:revision>
  <dc:subject/>
  <dc:title>Slide 1</dc:title>
</cp:coreProperties>
</file>